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F98-EA99-4232-B5CE-BCAD000D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0BE-3AE1-49B9-B260-A461BF62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78FC-25B2-4251-873F-FFD8F55C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C79-8D32-4D61-BF19-D9FA5DD9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87C-C820-4947-AD07-73E79448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2AC7-0DF8-4A2B-9F3A-C1CB91A2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CDE-0486-4F3E-A3A4-AE287ED8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BF6-1B9B-43F2-85C5-78A14C78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25C-F966-4AE4-ABFB-5F2BBE9F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057-D028-4E3B-A1DF-33598CC4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738-687C-46F6-AC3E-EE915338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8FB8-C827-4FCE-AD86-FD96E313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67FA-028B-4F20-AC1D-D5343C4FD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deo.pbs.org/video/1757221034/" TargetMode="External"/><Relationship Id="rId2" Type="http://schemas.openxmlformats.org/officeDocument/2006/relationships/hyperlink" Target="http://www.youtube.com/watch?v=FR4S1BqdFG4&amp;feature=related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cientificamerican.com/article.cfm?id=this-is-your-brain-on-drug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ous Syst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quiry bas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the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ulla oblong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 a picture of the brain and label p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out small pieces of paper and tape the functions over the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5105160" cy="364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12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using the promeathan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Nervous System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n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s within the body and in the outside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alyz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ensory information, stores some of it, and make decisions regarding appropriate behav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respo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imuli by initiating action in the form of muscular cont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the brain work and mediate body 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ideo.pbs.org/video/1757221034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FR4S1BqdFG4&amp;feature=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your phones, research how the brain works and identify one video like the ones above.  Add it to the list using the promeathan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on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following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tificamerican.com/article.cfm?id=this-is-your-brain-on-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the person near you and discuss how your brain is affected using info from th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8:37:38Z</dcterms:created>
  <dc:creator>jhiraoka</dc:creator>
  <dc:description/>
  <dc:language>en-US</dc:language>
  <cp:lastModifiedBy>jhiraoka</cp:lastModifiedBy>
  <dcterms:modified xsi:type="dcterms:W3CDTF">2012-10-31T19:00:22Z</dcterms:modified>
  <cp:revision>2</cp:revision>
  <dc:subject/>
  <dc:title>Nervous System </dc:title>
</cp:coreProperties>
</file>